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E0727-EBDF-40A4-8A85-366A8162E8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9D612-87B5-497E-8404-0A1411189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2EF84-1959-4DAA-9787-AC47F50DB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0ACBB-A068-40E6-B3E0-02B00F16B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9EFB6-87B7-4A1F-B3D9-CE898A6F9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7F3-9177-4F88-A145-50EB8393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DD5-E31D-482A-AB76-601E670E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416-E90E-4167-8EFB-51709E0F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10C-A9A7-4A22-9251-DDAB2F03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25E-810C-4043-B3E1-1B9FEF5A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78D9-D5A5-4CFE-9D1B-E8B7441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3B22-EEC4-478A-B43B-754FB513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DEA9-540D-4A24-AF52-25C35FA9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24F6-C159-4B9D-AAC4-298F0DBB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B9BF-D7D1-44C0-BA53-478200D3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4474-E9F4-4ECB-B375-2B10280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5E1-90B7-4959-8042-34F19AAC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770-49A4-4C95-A615-3DBDFEB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5955-8995-4BF4-9801-B6B89F1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17C9-A5CD-4075-B498-3E371C4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50F5-2614-4C48-A088-01221F1A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2E8-D85C-44E8-BCE5-B1E39B35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F1D10-0A68-4400-A772-AFD17A1B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ED82B-A531-47C8-A10F-1B0A7757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DBAF5-7447-4630-98FF-2DA6A2EA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E4A88-556A-4F00-9973-6545B551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EEAEC-3C3C-4EE9-8BFE-D0129EA0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CEB-045C-48BE-847A-0932633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79998-F907-4A63-9E11-84385D1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A96B9-2C6F-4E90-AC1E-343C58A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ABEF1-C20D-41B5-A06A-318CB27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4F319-C4FB-4266-AD1E-8551A00A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BF5E3-C6B8-44C0-8DAB-1C7F462D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6D528-6BFC-41AD-B35D-39620F34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EBEBB-54E6-433A-B6EF-8E2ADBDB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11B4-D6A6-47B7-BEC3-C198E219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DA9D-0313-4B68-8101-424CE595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43DC-6606-41E6-861D-39833AEA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E23-123B-4674-AFC7-38B30078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E61A-3E1B-4BF2-8E39-1AC0A402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6004E-4570-414E-BBAE-A545FF6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13BB-4F92-413F-AD43-13BF2E90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A0A6-62F8-4BD9-9456-0846B53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31F1-1454-480F-B410-0928234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4429F-1C01-4830-921D-54864044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41AB-AB34-4F01-964B-58A189DC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4F55-E309-493B-8F12-A7A24B90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C7AF-7CD4-43FA-AD39-FBBB99EA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EE61E-EBCE-45A7-8CCD-D54D25A8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31A-E133-4896-88DE-67B6F7C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61C01-08EB-46D8-B71C-EDEF49CC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AB8A8-AF70-4E92-B3F5-EB7F617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9D242-6122-430C-A2B1-291CCB4A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2D009-7581-4F74-93E0-3AB0A74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9B56C-6D7A-4139-B142-026DB29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89834-F0C9-4E9B-8E46-72346F9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8A75E-ACC2-4595-9BBB-0FFC691C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2DFFD-A3D9-47D7-B4CF-D16D788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44797-A723-44A3-8EC7-AB7C42A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3E416-07B5-4083-A354-FFC0E5FD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A59-131D-4AC2-8DBD-1DD7AD3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5F30D-2DD2-44AB-8754-EB34D1F8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14F896-C924-473A-B01D-81D76CAB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5FBA9-9B86-4894-9044-2EA9FB21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D9BBA-4452-469C-864C-F23E401F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2414C-B024-44F7-85AC-341398F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28C9A-0632-4F79-A542-632EB15F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103D2-1274-4E0F-A541-5E220B9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74DA1-DA2E-4FB4-8490-D8E217E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58134-6751-418F-A783-2DC84F1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86C44-617F-4C47-8249-01E8BA8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061-4E13-4B7A-9C74-BB47DE74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79E31-7610-40DC-98C7-A8EA21E8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9E400C-0D31-49CD-821C-0D481780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1E7CAF-CA3B-4C9A-8EAA-A7C9822C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4CD0F-335B-424A-AF64-6EDE7E35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08C43-0207-40FD-BFCF-3963A956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A10C5-5513-4F27-8B0C-2CAAED8B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F35D8-5A6C-4CDF-BA9A-5D7794B2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E4ED5-418F-4EB6-AF66-18946900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FE08A-8032-4D40-B784-AEB2A384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5E121-28B6-4B24-8633-E954A1A2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B11-F947-4894-B35A-4A647F0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09560-04CD-4B12-B348-5622C37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1B50D-6ECD-463D-ABEA-2F32F3A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C3398-D6F6-4D8B-8D90-924C89D5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54086-199C-470F-B6F6-003A26B9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4F0E2C-986E-4513-A159-134CE533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7F0-3A5B-4AD6-B636-651418D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6C394-E270-4C4A-9B59-D4F17B6DAAC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532B2-C9AB-4DDE-A30F-724AE67B41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72B0A-EA93-424E-848D-6346DB7BB6F5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2ED21-2B58-482A-A5B8-AFAC5C1E5C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965F5-40DE-4D14-AC6C-9D174229C08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B0978-1C6C-4434-9151-647E62FC01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69631-1BA7-47FE-B850-536BD313C4B5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33D05-169D-4EFD-8BBD-ABFAF59D24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B03EF-D905-4459-A110-46EDFF226FF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C923F-658C-4EE4-BE4D-BD267341EB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203AB-84AF-4DB6-8309-3C18F598075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962A4-CF29-4376-8858-61B1887547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87226-06B1-431F-A761-EC8F9EFB732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BE784-6311-4601-849F-37D34249C3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WEB-BASED BIOINFORMATICS PIPELINES FOR BIOLOG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grative Services for Genomic Analysis (ISG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enter for Genomics and Bioforma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CT: biohelp@cgb.indiana.ed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G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new-usage.eps"/>
          <p:cNvPicPr/>
          <p:nvPr/>
        </p:nvPicPr>
        <p:blipFill>
          <a:blip r:embed="rId1"/>
          <a:srcRect l="0" t="-565" r="0" b="-565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SGA: WHIRLWIND T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7680" y="0"/>
            <a:ext cx="803916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toggle some clusters on/of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clusters contain parallel programs that can be independently toggl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edit component param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save customizations to use with later data s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BUIL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Picture 4" descr="Screen shot 2010-01-14 at 10.01.40 AM.png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N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Screen shot 2010-01-14 at 10.03.31 AM.png"/>
          <p:cNvPicPr/>
          <p:nvPr/>
        </p:nvPicPr>
        <p:blipFill>
          <a:blip r:embed="rId1"/>
          <a:stretch/>
        </p:blipFill>
        <p:spPr>
          <a:xfrm>
            <a:off x="0" y="1079640"/>
            <a:ext cx="900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PIPELINE EXEC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writes configuration and pipeline definition files to the Ergatis instal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hen triggers execution through Ergatis and receives the pipeline id in retu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is updated directly from Ergatis XML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ed output is copied to ISGA, and the rest is available for download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TOOLBOX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s a GBrowse instance for visualizing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ST support for pipeline results as query or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xt search against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ols can be executed over SGE and monito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MINISTRATIVE TO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ly monitor status in ISGA w/ link to Ergatis   p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fication when pipeline fails, ISGA will pick up a resumed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redirect ISGA to a cloned Ergatis pipeline or cancel (w/ user notific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able new job sub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255680" y="3633840"/>
            <a:ext cx="5791320" cy="2895480"/>
          </a:xfrm>
          <a:prstGeom prst="rect">
            <a:avLst/>
          </a:prstGeom>
          <a:solidFill>
            <a:srgbClr val="fff39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255680" y="1424160"/>
            <a:ext cx="5718240" cy="19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 flipV="1">
            <a:off x="476064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98880" y="33289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3922560" y="5310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1640160" y="1881360"/>
            <a:ext cx="187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buil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m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pip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5711760" y="1995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6880" y="14940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1484280" y="5005440"/>
            <a:ext cx="2597040" cy="983520"/>
            <a:chOff x="1484280" y="5005440"/>
            <a:chExt cx="2597040" cy="983520"/>
          </a:xfrm>
        </p:grpSpPr>
        <p:sp>
          <p:nvSpPr>
            <p:cNvPr id="406" name="Rectangle 5"/>
            <p:cNvSpPr/>
            <p:nvPr/>
          </p:nvSpPr>
          <p:spPr>
            <a:xfrm>
              <a:off x="1484280" y="5005440"/>
              <a:ext cx="2597040" cy="96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1523880" y="5377320"/>
              <a:ext cx="2065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informatics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and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1524960" y="503424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ared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3983040" y="1944720"/>
            <a:ext cx="2746440" cy="121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073040" y="19447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074480" y="233856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2855880" y="3786120"/>
            <a:ext cx="2450880" cy="965160"/>
            <a:chOff x="2855880" y="3786120"/>
            <a:chExt cx="2450880" cy="965160"/>
          </a:xfrm>
        </p:grpSpPr>
        <p:sp>
          <p:nvSpPr>
            <p:cNvPr id="413" name="Rectangle 7"/>
            <p:cNvSpPr/>
            <p:nvPr/>
          </p:nvSpPr>
          <p:spPr>
            <a:xfrm>
              <a:off x="2855880" y="3786120"/>
              <a:ext cx="2450880" cy="9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3210840" y="411012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 config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3598560" y="3786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a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4379760" y="5005440"/>
            <a:ext cx="2451240" cy="96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4602240" y="50180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4610520" y="538632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161160" y="60721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 flipV="1">
            <a:off x="316008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STIFICATION AND HI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 (CONTINUED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l &amp; jQu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istence = PostgreSQL &amp; YAML &amp; X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X::WebAp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cked up HTML::FormEn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DING AN ERGATIS PIPELINE TO 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039160" cy="681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865840" y="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 Ergati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RST: UNDERSTAND THE PIPE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akes a description of an Ergatis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YAM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base Schem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gatis component .config 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ument input and output of all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components are opt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r can upload previously generated data in their stea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ternative data from the pipeline can be use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ipeline is still useful without this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PLIFIC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microbial annotation pipeline is composed of 64 Ergatis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ossible to diagram for you on a slide or for  a biologist on our web p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of these components are file format conversions, program iterations, database preparation, etc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are not relevant to a high level view of the pipeline and offer no useful parameters for a biologist to customiz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USTERS OF ERGATIS COMPON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k the pipeline into biologically meaningful clusters of one or more componen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as much art as science, may depend on your audi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‘Alternative Start Site Analysis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450720" y="4309920"/>
            <a:ext cx="824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cripts and XML files are unchang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stores the configuration template for each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s with editable parameters have a YAML definition that is used to build the web 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values are incorporated into the configuration temp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-- !perl/ISGA::ComponentBuild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: RNAmme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scription: ‘RNAmmerpredicts 5s/8s, 16s/18s, and …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select', NAME: 'molecules', TITLE: 'rRNA Molecules', REQUIRED: 1, OPTION: ['ssu (5/8s rRNA)', 'lsu (16 /18s rRNA)', 'tsu (23/28s rRNA)', 'ssu and lsu', …], OPT_VAL: ['ssu' , 'lsu', 'tsu', 'ssu,lsu’, …], VALUE: 'ssu,lsu,tsu', DESCRIPTION: 'Declare what rRNA molecule types to search for.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molecule___’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nBuilder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hidden', NAME: 'project_id_root', TITLE: 'Project Id Root', REQUIRED: 1, DESCRIPTION: 'The Id root used in bsml id generation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project_id_root___'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ISGA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additional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prokaryotic assembly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additional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ke pipelines modular components of ISG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pipeline version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ipeline and data sha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gatis Cloud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4" descr="Chris_Hemmerich"/>
          <p:cNvPicPr/>
          <p:nvPr/>
        </p:nvPicPr>
        <p:blipFill>
          <a:blip r:embed="rId1"/>
          <a:stretch/>
        </p:blipFill>
        <p:spPr>
          <a:xfrm>
            <a:off x="2209680" y="2666880"/>
            <a:ext cx="1462320" cy="182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Aaron_Buechlein"/>
          <p:cNvPicPr/>
          <p:nvPr/>
        </p:nvPicPr>
        <p:blipFill>
          <a:blip r:embed="rId2"/>
          <a:stretch/>
        </p:blipFill>
        <p:spPr>
          <a:xfrm>
            <a:off x="457200" y="2666880"/>
            <a:ext cx="1417680" cy="183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Qunfeng_Dong"/>
          <p:cNvPicPr/>
          <p:nvPr/>
        </p:nvPicPr>
        <p:blipFill>
          <a:blip r:embed="rId3"/>
          <a:stretch/>
        </p:blipFill>
        <p:spPr>
          <a:xfrm>
            <a:off x="7162920" y="2666880"/>
            <a:ext cx="146196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7089840" y="4724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6160" y="472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hi Rev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84320" y="51055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15624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Buech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Ram"/>
          <p:cNvPicPr/>
          <p:nvPr/>
        </p:nvPicPr>
        <p:blipFill>
          <a:blip r:embed="rId4"/>
          <a:stretch/>
        </p:blipFill>
        <p:spPr>
          <a:xfrm>
            <a:off x="5562720" y="2666880"/>
            <a:ext cx="1434960" cy="182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3"/>
          <p:cNvSpPr/>
          <p:nvPr/>
        </p:nvSpPr>
        <p:spPr>
          <a:xfrm>
            <a:off x="5565960" y="51055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 Podich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Kashi_Vishwanath_Revanna"/>
          <p:cNvPicPr/>
          <p:nvPr/>
        </p:nvPicPr>
        <p:blipFill>
          <a:blip r:embed="rId5"/>
          <a:stretch/>
        </p:blipFill>
        <p:spPr>
          <a:xfrm>
            <a:off x="3886200" y="2666880"/>
            <a:ext cx="1530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BACKGROU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vide a high-throughput microbial annotation service to local biologi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Reliable and pipelined exec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Efficient mainten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rovide privacy and security fo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-quality (automated) anno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logists able to customize parame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ble to incorporate new programs and pipeli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RGATIS (ERGATIS.SOURCEFORGE.NET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4880"/>
            <a:ext cx="82281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b-based analysis pipeline 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aps tools and utilities in “componen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ility to add new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ild new and customize exist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-depth monitoring of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nderlying Workflow package supports S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XML/BSML common data exchange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cludes prokaryotic annotation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RGATIS WORKFL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Content Placeholder 6" descr="ergatis-dia1.eps"/>
          <p:cNvPicPr/>
          <p:nvPr/>
        </p:nvPicPr>
        <p:blipFill>
          <a:blip r:embed="rId1"/>
          <a:srcRect l="0" t="-16380" r="54685" b="-16380"/>
          <a:stretch/>
        </p:blipFill>
        <p:spPr>
          <a:xfrm>
            <a:off x="2471760" y="1600200"/>
            <a:ext cx="338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LIGHT CORR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Content Placeholder 4" descr="ergatis-dia1.eps"/>
          <p:cNvPicPr/>
          <p:nvPr/>
        </p:nvPicPr>
        <p:blipFill>
          <a:blip r:embed="rId1"/>
          <a:srcRect l="44693" t="-16380" r="0" b="-16380"/>
          <a:stretch/>
        </p:blipFill>
        <p:spPr>
          <a:xfrm>
            <a:off x="2260440" y="1600200"/>
            <a:ext cx="4131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NOT EXPOSE ERGAT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ufficient accounts and per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red interface for building and customiz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rs must submit and retrieve results through file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 monitoring interface is slow and compl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f use to biologists is lost in “nois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gh umber of components in a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lexity of configuration interfa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0336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1503360" y="1801800"/>
            <a:ext cx="6791400" cy="1230480"/>
          </a:xfrm>
          <a:prstGeom prst="rect">
            <a:avLst/>
          </a:prstGeom>
          <a:solidFill>
            <a:srgbClr val="ff0000">
              <a:alpha val="13000"/>
            </a:srgbClr>
          </a:solidFill>
          <a:ln w="12600">
            <a:solidFill>
              <a:srgbClr val="ff6903"/>
            </a:solidFill>
            <a:miter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R S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n alternative interface for biologists that uses the Ergatis back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ministrators also use Ergat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interfac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counts and permission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ify pipelines and component management by reducing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vide form validation, documentation and other features to improve usabi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19720" y="3378240"/>
            <a:ext cx="30456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19:32Z</dcterms:created>
  <dc:creator>Chris</dc:creator>
  <dc:description/>
  <dc:language>en-US</dc:language>
  <cp:lastModifiedBy>Chris</cp:lastModifiedBy>
  <dcterms:modified xsi:type="dcterms:W3CDTF">2010-01-15T23:15:04Z</dcterms:modified>
  <cp:revision>12</cp:revision>
  <dc:subject/>
  <dc:title>Slide 1</dc:title>
</cp:coreProperties>
</file>